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8510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02F-6BDD-43A4-92A3-A2BC2293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985760"/>
            <a:ext cx="91440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918680"/>
            <a:ext cx="91440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073-6C08-4C4E-AADD-60F10867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98576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98576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91868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91868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1A6-9236-4ACB-8FEE-1441AA00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985760"/>
            <a:ext cx="29440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985760"/>
            <a:ext cx="29440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985760"/>
            <a:ext cx="29440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918680"/>
            <a:ext cx="29440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918680"/>
            <a:ext cx="29440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918680"/>
            <a:ext cx="29440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2C2-0BB1-4415-B93B-D263F0CE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985760"/>
            <a:ext cx="91440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60E-F204-496A-9AEA-7EDF97ED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985760"/>
            <a:ext cx="91440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3AA-00C8-42ED-B5F2-9ED5D2B0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985760"/>
            <a:ext cx="44622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985760"/>
            <a:ext cx="44622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80C-F625-420C-8819-B6FA729A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F6A-85BF-4F10-9F01-8105580C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41280"/>
            <a:ext cx="91440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74F-4B95-4917-859D-F3DA57E4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98576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985760"/>
            <a:ext cx="44622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91868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9F2-9F35-4428-9FCD-9E5F4C26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985760"/>
            <a:ext cx="44622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98576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91868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05F-B8A9-496F-A164-EF9676D2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98576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98576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918680"/>
            <a:ext cx="91440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371-3978-410C-B786-87FD4693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985760"/>
            <a:ext cx="91440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748640"/>
            <a:ext cx="23702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748640"/>
            <a:ext cx="32162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748640"/>
            <a:ext cx="23702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87E0-574F-4676-8FF4-90E4D59A5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25272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- 48"/>
              </a:rPr>
              <a:t>Stomach Canc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36760" y="3936960"/>
            <a:ext cx="5156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5"/>
              </a:rPr>
              <a:t>By: Justin, Ty, and Patric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4080" y="2031840"/>
            <a:ext cx="871236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ccff"/>
                </a:solidFill>
                <a:latin typeface="Symbol - 35"/>
              </a:rPr>
              <a:t>·</a:t>
            </a:r>
            <a:r>
              <a:rPr b="0" lang="en-US" sz="3500" spc="-1" strike="noStrike">
                <a:solidFill>
                  <a:srgbClr val="00ccff"/>
                </a:solidFill>
                <a:latin typeface="Times New Roman - 35"/>
              </a:rPr>
              <a:t>Stomach cancer should not be confused with cancers of the colon (large intestine), liver, pancreas, or small intestine because these cancers may have different symptoms, a different outlook, and different treatments.</a:t>
            </a:r>
            <a:r>
              <a:rPr b="0" lang="en-US" sz="3500" spc="-1" strike="noStrike">
                <a:solidFill>
                  <a:srgbClr val="000000"/>
                </a:solidFill>
                <a:latin typeface="Times New Roman - 35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21040" y="800280"/>
            <a:ext cx="4241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- 36"/>
              </a:rPr>
              <a:t>Stomach Canc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59000" y="851040"/>
            <a:ext cx="734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 - 48"/>
              </a:rPr>
              <a:t>Some So-called Preven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54080" y="2031840"/>
            <a:ext cx="83818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Symbol - 35"/>
              </a:rPr>
              <a:t>·</a:t>
            </a:r>
            <a:r>
              <a:rPr b="0" lang="en-US" sz="3400" spc="-1" strike="noStrike">
                <a:solidFill>
                  <a:srgbClr val="ff0000"/>
                </a:solidFill>
                <a:latin typeface="Times New Roman - 35"/>
              </a:rPr>
              <a:t>It has been suggested that green tea has prevented gastric (stomach) adenocarcinoma, or cancer. It is the second leading cause of cancer death throughout the world; however, a recent study published in the New England Journal of Medicine did not confirm such theories of the Green Te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6880" y="851040"/>
            <a:ext cx="444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- 48"/>
              </a:rPr>
              <a:t>Odds and Rati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54080" y="2031840"/>
            <a:ext cx="8508960" cy="46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3500" spc="-1" strike="noStrike">
                <a:solidFill>
                  <a:srgbClr val="000000"/>
                </a:solidFill>
                <a:latin typeface="Times New Roman - 35"/>
              </a:rPr>
              <a:t>Two out of 3 people that have stomach cancer are older than 65. The risk of getting stomach cancer is a 1 to 100 ratio, but there is a slightly higher prospect that men will get it than women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5"/>
              </a:rPr>
              <a:t>·21,130 new cases of stomach cance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5"/>
              </a:rPr>
              <a:t>·10,620 deaths from stomach canc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68760" y="851040"/>
            <a:ext cx="436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- 48"/>
              </a:rPr>
              <a:t>My Knowledg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2880" y="1701720"/>
            <a:ext cx="853416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Symbol - 36"/>
              </a:rPr>
              <a:t>·</a:t>
            </a: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It is also known that while smoking can cause lung cancer, it is also a leading cause in gastric (stomach) cancer. My aunt was only 39 when she diagnosed with gastric cancer, she was given treatments over a six month period, but it was no help. She died four days before her fortieth birthday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165240" y="165240"/>
          <a:ext cx="9656640" cy="68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65240"/>
                    <a:ext cx="9656640" cy="68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- 16"/>
              </a:rPr>
              <a:t>`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3080" y="1409760"/>
            <a:ext cx="69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1. Gastric (Stomach) cancer affects the stomach.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T 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. Women are more likely to get Gastric cancer. 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T 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. The U.S. has more problems with Gastric cancer than other countri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T 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. Gastric cancer is deadly.</a:t>
            </a:r>
            <a:r>
              <a:rPr b="0" lang="en-US" sz="2800" spc="-1" strike="noStrike">
                <a:solidFill>
                  <a:srgbClr val="800080"/>
                </a:solidFill>
                <a:latin typeface="Times New Roman - 28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 - 28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. There are many cases of Gastric cancer in the U.S.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T 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70080" y="635040"/>
            <a:ext cx="88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70080" y="127008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7:39:19Z</dcterms:created>
  <dc:creator>FCPS</dc:creator>
  <dc:description/>
  <dc:language>en-US</dc:language>
  <cp:lastModifiedBy>FCPS</cp:lastModifiedBy>
  <dcterms:modified xsi:type="dcterms:W3CDTF">2010-03-24T17:39:20Z</dcterms:modified>
  <cp:revision>1</cp:revision>
  <dc:subject/>
  <dc:title>Slide 1</dc:title>
</cp:coreProperties>
</file>